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9FE0-720E-45AC-A38A-9F047F4A8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C029-2EF9-4A05-A49D-23CE715A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0D68-E23A-4D9F-B035-533CE595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AC00-386C-4775-8D6D-166EC26DF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2C72-145F-44B7-AEA7-933581C7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05B7-B04B-417C-A547-67F1E808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037E-B047-4504-905B-90691FEA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61E2-0AD0-41A7-8217-1E73673A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D60E-8C99-4E9A-9F1A-153EC321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F990-4B5F-444D-9C0B-7DCAA918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609F-1EDB-47CD-A4D7-C9B5210F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5217-D3A8-4B3B-935A-CA3C47F2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4f24"/>
            </a:gs>
            <a:gs pos="100000">
              <a:srgbClr val="f2f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E9D3-51C4-427D-A6B1-56D5AE7BC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4f24"/>
            </a:gs>
            <a:gs pos="100000">
              <a:srgbClr val="f2f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l Divertingl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uzzy in Gondo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pisod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4f24"/>
            </a:gs>
            <a:gs pos="100000">
              <a:srgbClr val="f2f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Pre- viewing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Warm up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iochi con le flash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passo del lessico sui cibi e bevande con strutture grammaticali abbinate ( es: I like…; Can I have…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uessing Game ( How many…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4f24"/>
            </a:gs>
            <a:gs pos="100000">
              <a:srgbClr val="f2f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While Viewing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isten and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isten and 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dd One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4f24"/>
            </a:gs>
            <a:gs pos="100000">
              <a:srgbClr val="f2f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Post – Viewing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iochi ed attività con flash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ordinare sequ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bbinare immagini e didasca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mpletare fumet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Who Says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ole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scolta ed identifica l’immagine corret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iochi a squa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4f24"/>
            </a:gs>
            <a:gs pos="100000">
              <a:srgbClr val="f2f9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icolt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tilizzo dell’episodio in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Real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ealizzazione dell’attività durante la visione dell’episo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sufficienza di materiale da utilizzare in classe per la preparazione di giochi o schede di approfond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3:54:14Z</dcterms:created>
  <dc:creator>margina</dc:creator>
  <dc:description/>
  <dc:language>en-US</dc:language>
  <cp:lastModifiedBy>margina</cp:lastModifiedBy>
  <dcterms:modified xsi:type="dcterms:W3CDTF">2006-01-10T14:57:49Z</dcterms:modified>
  <cp:revision>7</cp:revision>
  <dc:subject/>
  <dc:title>Il Divertinglese</dc:title>
</cp:coreProperties>
</file>